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4948-8B79-4EEC-8F78-C42D01EB7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BEB0-3443-4E03-ADF8-F10EC8E75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3CC6-6447-4DFB-B570-893010E21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BBA0-1828-4CE8-8D5F-5C821C404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4C611-987B-49F1-946F-D13FDDF75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AE80A-7B9D-4F81-A200-1D38BBC37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3300B-1A0B-49BD-8EB7-08AA7AB90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A7D47-9375-4C24-8BD9-AA29F96A6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AF8FB-883F-4D6E-AEFF-C357B5DFD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E1157-C4C2-4B51-A9DC-1B7881A0B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E1623-05B7-4641-BFF0-BF9442573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1227-E061-4737-92D6-347393F7A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EB6DC-E213-4B74-8910-FF3517C88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65076-88B9-4ED1-92CB-FBFDDD419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C4DB5-8935-4AAC-B702-E6162E1E3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82CE0-6A8D-47F3-B681-61BD8D05E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21B77-C1B1-4C92-9776-C69623D6B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A681-4E70-4ED6-9FE0-00F3ACC66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EEA0-37C6-46F1-B67B-5B88A073F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61CE-13AC-401E-AC19-68A538774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447A-18CD-45CA-8D28-1E89EE207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24CE-3844-48E9-BB8A-F8224825A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F554-1B3E-4B1A-8EEB-652261194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328B-9FFF-4C71-9D7C-5E955EFB0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3DD30-5187-4E0F-AF40-80BDD08DD1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4181D-2C53-45AF-8B20-2618731A63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572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ang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lowing f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mi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181480" y="0"/>
            <a:ext cx="3657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95880" y="91440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10080" y="304920"/>
            <a:ext cx="3124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24280" y="0"/>
            <a:ext cx="41911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angib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armth of spiri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ov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o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ss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atr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28600" y="3200400"/>
            <a:ext cx="2209680" cy="17524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28600" y="4952880"/>
            <a:ext cx="1535040" cy="1386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2209680" y="4343400"/>
            <a:ext cx="1676520" cy="22096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7543800" y="3657600"/>
            <a:ext cx="1447920" cy="13716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6"/>
          <a:stretch/>
        </p:blipFill>
        <p:spPr>
          <a:xfrm>
            <a:off x="5715000" y="4800600"/>
            <a:ext cx="12193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0:05:32Z</dcterms:created>
  <dc:creator>Kayla</dc:creator>
  <dc:description/>
  <dc:language>en-US</dc:language>
  <cp:lastModifiedBy>Kayla</cp:lastModifiedBy>
  <dcterms:modified xsi:type="dcterms:W3CDTF">2011-11-30T00:22:23Z</dcterms:modified>
  <cp:revision>2</cp:revision>
  <dc:subject/>
  <dc:title>Slide 1</dc:title>
</cp:coreProperties>
</file>